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A58B04E-54F6-44BF-96CB-F7B5F2A58C2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5008856A-2154-4015-A302-FA5F0354C02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FA0EC0CA-62B7-4817-B5B3-1EAE11ADBBF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32B6FC08-3D49-471E-B5BD-85DE2BD60CC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D42FD6AE-24B8-4133-BC82-65F663FEA4F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573090-32E8-413F-BE6C-19D5F05BEAA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0F4C5EAF-7159-400E-90A2-D9D6B89251D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0C1BDF86-7C8B-494A-A029-C90EF17EB44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FEF476D7-A77A-45B7-B18A-762F1DEC46F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567E640-8562-4001-8185-E49EA0A3DF9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16B742C-378C-42A2-8AAF-C1B9456D42F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6575FAE-30BE-42A2-9C79-3C668DB0090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97BE51-0937-4F5B-B201-F77D2A05450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795D169-59D1-4C19-8C4A-66443B26C9BC}"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70B5114-653B-444C-B50F-8556E955DF02}"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EE806C3-5CB9-4DDD-83FD-CFBD47CE4EBF}"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3D79D03-BF23-41CD-BAB2-79AEECB9AA80}"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0D4733-CAB4-4EF5-8265-98B848D56E4F}"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06BD3F-33F5-4133-847A-BF19DF4D1442}"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CDF549C-8B38-4536-9C0B-0B76EE35D869}"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72F02B-48D4-4DCE-B077-F88976EDB0B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9DDFB2-9E52-47E9-A3B1-8D48F531716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654AF93-96C7-4EE5-9F44-6F592C02E24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C0E30A-2EFD-44ED-8CA4-254156D002F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4B7FA65-1869-4B3F-9594-A0BD3D35AD2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ABD968CE-67C3-4412-A4A9-4999C851D59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1299291-A22E-4E03-B684-FE7A40A4D33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20E6B6-FEA8-40CE-9776-DB5125C56CA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06B2A3-B0FB-4B44-8762-BD44AFF70D5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39E4DFE-A8A2-4A7E-819D-2F57771661B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3F33F7-867F-44B3-B307-C63EFDA172B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EE30AE-813F-4772-8DDA-74CCDCF9AD7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5441F7-A6F7-4737-9ABB-CDFDFB4A266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517E530-F9DA-4D22-AE4E-DF24CD19CB0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394D87-A2C4-477B-A85D-34E3456AD57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4C56A33-743B-4F6A-AF82-F393D1D234D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70F909D-16BF-461A-ACA9-949132E9AFD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C7993C-B932-43FE-86DA-4EBB3ACC49B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1EF7D2D-F924-4464-AF9B-6353BCD8BC1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853D000-A71B-45E8-841A-DE937250962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EF095C-CEB2-4489-8E00-85BAA39CA92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84AAA4F-DBC8-43B9-9464-906C1691B66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878D58-44EA-44A3-B55D-06734F1B1DB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005F7E8-1833-4556-99EE-C9CFF699622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7FDA833-B663-4FFC-B15D-E3359959A4D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E514E4A-28D1-4540-8189-D34E5EECC3BA}"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F5C026-7DFB-4133-B069-B076232A655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7F63FB-FE41-400F-AC69-D6922F1CB89B}"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A3B033-64C2-461E-A4D0-B0E01A96838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172AA7-C9C9-4BDB-B0CB-01854585BEE7}"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E857D527-7E3F-43A0-839B-960CA430F44C}"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2464EF-034B-401A-AB02-6C0A5DC70393}"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183729-9F03-413C-BFDA-116CB6B70E6F}"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4D5501-F419-4004-B4CB-B7191BE7884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58E0BF-B61F-4D8D-B4FD-26AEFBE4D06C}"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8DD706C-D7FD-4AB7-8372-678DD6E92DA3}"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CCCDD7-840E-4421-BCBF-EA728C42BD1D}"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D219F9-684D-4353-9712-9020A8364DC5}"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CCF606D-DB87-4440-AFEE-103DD0EA596E}"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0CA906-2648-4F49-A7AB-12D284861B0E}"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E5193A45-B036-46CD-925D-AA096696A192}"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4B5F12-46C4-425F-9C82-67FEAAF7E044}"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BBA6963-2092-4A4E-B377-3126EE40AA65}"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DEA959-D216-4878-8D21-54AB8B622956}"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DB598C-1D7A-4F50-ABCD-DF96F9DF650E}"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978B512-1068-4131-96B1-36D1F32A0A44}"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D20E8E-71BB-42F1-93A1-CB006BA26B45}"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856BE2-707F-414E-87D6-B44A7E62C38E}"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F8C4BF8-FD67-4A1D-91F9-92959AB55F71}"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CACB47-6C33-410A-A7C5-76D79BD126D9}"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085D2D-5987-4FB1-BA35-B2936BB911A1}"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BA57375D-1EC1-48C7-87CF-EB5C12E29A43}"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0C6FD8E-9774-48F1-A759-27E75AFC1A6A}"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2C7010-B1D0-43E9-92B3-BE4C632E6AEF}"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8E42487-135B-4AA7-A229-2B8FA235C61A}"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8FEEBDB-748B-4910-9437-6CE534364858}"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C608E3E-5BBC-4B98-91AA-A4BCAA03EEA1}"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FCF1C0-D92E-4D20-A40A-52EA92B7AD45}"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35E937-6042-4F7E-8F8E-AF8ACD0775F2}"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60D0691-2F8B-476C-BB54-52C93C43EF83}"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B6A73B-0F28-4159-B0EC-1024DCEC672C}"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04925D-4A55-479B-A275-C1E7E3BD366E}"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CB209E-C8EE-4A7E-8182-BABE21AB0A11}"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5443872-CF1A-4EB5-9743-40A35D6E83C9}"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8E33E0-873B-464F-A1C4-5D3936D169B7}"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B30AA56-C67C-4E17-BDF6-2D1F0319CA07}"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F46E0F7-4D69-4209-880B-E02332574044}"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5114A48-DC2D-4486-903C-6B1FBF6ADF36}"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0371E7E-951C-4840-95E2-D1BDAE6DC7FD}"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684774-34CA-4A65-B403-91624C5B21D1}"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1E04DD5-94ED-469E-9D75-A8BFCBA94DB6}"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102388-FD3F-409D-98B9-F0D8DAF6F4AE}"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61C1CB9-F334-47D4-8F87-873B23ACEA6C}"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4545AF-F21E-4A0E-B758-09908A531FAC}"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F64BFA-CC17-4478-8497-67DD73B9BA9C}"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70210A-8E7A-4F21-802B-43E95816C033}"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117CB9-3B74-4E7B-B2E4-D8BDFAA5A3E1}"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5422DAF-296B-4B78-9459-869B3DC015D4}"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5E8942-7C7C-4CD9-9FE1-60D3444718CD}"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C12FE1-43CA-4D01-B5B7-4AD84F5822C6}"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508DC31-38E4-4042-B403-4260797E0EF0}"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85CD39-47A3-4909-BA9A-1082E0715B5D}"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4F919F8-FBBA-4D62-957C-B048A3620AAF}"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15A67D-2450-4E48-B74F-A6041E9553B6}"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8DC6D6D-32B9-4659-9249-466B9684DACC}"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F13BAC-C97A-4ABA-B2BD-4782DAD92FF3}"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E8D265-130A-49A6-B666-7D67F7BCABC0}"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6EE8D71-BC57-4599-A081-8250BBBD3A1C}"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FFEDF8-1462-490E-83E7-9F0FC4DA414A}"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4D8D028-438B-4D27-BA9E-E49D45A48B38}"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CE33A9-3F99-4ABE-9F62-8180E15ED557}"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731CF17-AB3E-4720-B6CB-44A33AE345E3}"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2A1CE5-D96B-4D60-B81D-CC9B731FFD29}"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B49B36-2214-4D6E-9A98-6BD240571915}"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CF94F3B-9BCB-4B0A-93BA-8072AE940CF8}"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57FB0E-06A5-4329-AEFC-15D9788AB6F5}"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0605E1D-55F2-4065-8B8E-2A75657BED1A}"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