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32875"/>
        <c:axId val="13257857"/>
      </c:barChart>
      <c:catAx>
        <c:axId val="956328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57857"/>
        <c:crosses val="autoZero"/>
        <c:auto val="1"/>
        <c:lblAlgn val="ctr"/>
        <c:lblOffset val="100"/>
        <c:noMultiLvlLbl val="0"/>
      </c:catAx>
      <c:valAx>
        <c:axId val="13257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328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E42-873E-4CAC-9B2B-AF330641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3BF-139F-4B81-87D8-73B52732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AD6-26A6-4BC8-AAF9-EEB5827D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0B3-CFF3-4FCF-8D3E-AC5FDF76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20C-4F89-4267-AC00-C1C0AC6F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AD1-9624-4E19-8898-1F4746BB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F5A-7796-4FDB-9C94-CEFEA353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6FE-41D6-4CD6-80B2-285D8490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2B5-645D-4537-917E-8B1F7602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CD6-46FE-4A3A-939D-605D5C1C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DF9-FE6B-4F7F-8EA9-342F13F9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A22-0A0E-4BA3-AB31-520CED8C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DCD8C-610D-43F6-BF0C-9A6BE9199E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