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70302"/>
        <c:axId val="97128022"/>
      </c:barChart>
      <c:catAx>
        <c:axId val="39270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28022"/>
        <c:crosses val="autoZero"/>
        <c:auto val="1"/>
        <c:lblAlgn val="ctr"/>
        <c:lblOffset val="100"/>
        <c:noMultiLvlLbl val="0"/>
      </c:catAx>
      <c:valAx>
        <c:axId val="97128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0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5BB-19BD-4977-B0B6-2396D566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D20-7133-4483-9995-6F856D10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1CF-DC48-4DAA-B0D2-85032FC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020-F156-4C23-B27C-1F75777E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0CB-9CD9-4ECE-89D8-7429139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C9E-BD79-443E-8D3B-14AE1D00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DF7-3F34-4516-96B7-D4B88F0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B3A-F8F3-4214-8AFE-A4EB90A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A01-D4A5-41AF-90F2-578ABEC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226-04AC-41C0-9DB1-DF184A8F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2A6-F7DD-46D9-8F04-C3B29D2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826-5670-4D79-8EE8-3B24102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896A-F130-4EFF-A7F1-D0D82C2FA1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