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84440"/>
        <c:axId val="29614860"/>
      </c:barChart>
      <c:catAx>
        <c:axId val="28584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14860"/>
        <c:crosses val="autoZero"/>
        <c:auto val="1"/>
        <c:lblAlgn val="ctr"/>
        <c:lblOffset val="100"/>
        <c:noMultiLvlLbl val="0"/>
      </c:catAx>
      <c:valAx>
        <c:axId val="29614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84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9FB-6B6F-4084-BC7C-9C5FB2C6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8F1-64C8-40AB-811E-ABB08DF0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1AAA-4769-4B32-B376-F21A511B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B8C-84BE-45AC-8F77-2654E0E1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0DF-046B-4A07-9494-F6F57432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50C-A51F-4813-9C0A-21A26618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7B5-8685-4C39-B2A2-8E3ED918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A3B-A8F2-4AA9-AC8D-19C2AE41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F6F-73FA-40E3-8427-05E9F67A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CB5-634A-4CDD-81FF-1334CFB8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E81-D7B9-4948-97A2-3CFCCC0C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BD6-A255-414E-8B24-E60E529A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D67C3-6046-41B8-ACFF-C7827F7339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