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78088"/>
        <c:axId val="25852021"/>
      </c:barChart>
      <c:catAx>
        <c:axId val="82878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2021"/>
        <c:crosses val="autoZero"/>
        <c:auto val="1"/>
        <c:lblAlgn val="ctr"/>
        <c:lblOffset val="100"/>
        <c:noMultiLvlLbl val="0"/>
      </c:catAx>
      <c:valAx>
        <c:axId val="25852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78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07C-1765-4D82-8054-7092C7D5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A6D-F43D-4F36-BECA-F18B0A5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9D0-D8E6-4EF7-8350-109D455C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753-11B1-49D9-A499-0B6B570A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7C6-E308-45B9-9227-A69D931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408-1C0A-42F2-BB2C-DEFE2A67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F19-2636-4532-8DE9-EF7E875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906-7BE2-450E-9A9E-C9ADE6E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F21-D684-420B-9F25-6C1CA5F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BAC-F178-4274-AA2B-22C07ED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D43-5BE3-49AC-A7BC-8CC3DCB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304-0994-4EA0-95AF-03ED9B0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5516A-259C-4900-AAAE-E72C5B94B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