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477383"/>
        <c:axId val="59626858"/>
      </c:barChart>
      <c:catAx>
        <c:axId val="404773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26858"/>
        <c:crosses val="autoZero"/>
        <c:auto val="1"/>
        <c:lblAlgn val="ctr"/>
        <c:lblOffset val="100"/>
        <c:noMultiLvlLbl val="0"/>
      </c:catAx>
      <c:valAx>
        <c:axId val="596268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773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8C88-678C-429C-A5AA-64BF9C4E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484F-5826-42CE-94A7-35D24F52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A295-9518-4067-9DD9-2328DA06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822C-DB98-4A04-8061-E8A31E6D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17C-7B38-44C0-AC21-1338B958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C269-3F2B-43CD-BF36-7BA97851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731-8B4A-4598-A167-A0DBF129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D0ED-64D8-4DDA-B867-645969DA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B3A6-228A-4193-B677-E807AA9C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31DD-3333-4B24-A8F8-D4B13F06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7C42-B4AB-49C2-98D7-304DBF4B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F8D4-5E28-4A34-A844-9A9CBF0F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0D824-C289-4FD2-85E4-EBF2E2B4B9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