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86907"/>
        <c:axId val="54192078"/>
      </c:barChart>
      <c:catAx>
        <c:axId val="83586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2078"/>
        <c:crosses val="autoZero"/>
        <c:auto val="1"/>
        <c:lblAlgn val="ctr"/>
        <c:lblOffset val="100"/>
        <c:noMultiLvlLbl val="0"/>
      </c:catAx>
      <c:valAx>
        <c:axId val="54192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6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CED-4A79-4625-ADD5-F53744D8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584-B494-489A-BE3E-2FB9E84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AB1-7EA5-463C-9878-C66299DD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5C3-AD6D-4A1F-9A87-5876FEE5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140-98F9-4EBC-A092-06422AAD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64B-5F6D-4023-9D60-38E5565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E1D-0F89-4885-B51A-EDE7B95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8C4-A878-45B1-9033-7057AA4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D28-46A0-4A2C-834E-F1B0E658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873-7FB2-4FDC-ACFB-A038FCA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BF4-AA9F-4233-8E0E-8D4BBE3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89E-F02C-447A-8827-EE43F65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CB115-3088-4317-88AA-29AF1813C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