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36528"/>
        <c:axId val="98463625"/>
      </c:barChart>
      <c:catAx>
        <c:axId val="38236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63625"/>
        <c:crosses val="autoZero"/>
        <c:auto val="1"/>
        <c:lblAlgn val="ctr"/>
        <c:lblOffset val="100"/>
        <c:noMultiLvlLbl val="0"/>
      </c:catAx>
      <c:valAx>
        <c:axId val="98463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36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BC0-B4A2-45FD-87E4-5839AD1F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902-6C5F-4E31-9490-8E7E7B61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558-E83F-4087-B154-FDA900D4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C40-7F6A-43E0-B855-953C0ED5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C66-9CEB-4817-8536-B7D565B4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B90-826E-403A-A0CD-4D58332F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ADF-2A59-486C-A5B6-7B2F7338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B65-C10C-4527-AC31-6E9A1A4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83C-0C40-48D4-AE09-20AE523D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3D6-19BB-4A54-BE98-218BC451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7C9-477C-4BEF-9EF5-77B21DF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36A-EC20-46B4-B1FC-B8622EFC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FDA69-81BF-49E7-A9FC-4E12D2DA65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