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405736"/>
        <c:axId val="53628945"/>
      </c:barChart>
      <c:catAx>
        <c:axId val="164057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628945"/>
        <c:crosses val="autoZero"/>
        <c:auto val="1"/>
        <c:lblAlgn val="ctr"/>
        <c:lblOffset val="100"/>
        <c:noMultiLvlLbl val="0"/>
      </c:catAx>
      <c:valAx>
        <c:axId val="536289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4057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A6FF-0F35-4F9F-BE0E-F919B29BB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878D-AF17-43AD-97FC-CB1713AA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6FC4-47F2-43CF-95E9-033000777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6D3F-8D77-4C70-88EC-03F050FEE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9312-10B8-46BC-9688-2D53E401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FEEC-38FE-4956-8BF5-6DBEF9DB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AE69-418B-4B93-97EB-049DD371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890B-C0F8-42B2-A575-C2320E20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843F-72E1-44FA-8460-B6FBF289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661F-3830-46DD-892F-EBD891EC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74C0-F6C3-47B7-93BB-A8C561D0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B686-0E4C-4A8C-841D-2B5A3581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84155-9E29-4700-AA94-3607D128B5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