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42555"/>
        <c:axId val="42060459"/>
      </c:barChart>
      <c:catAx>
        <c:axId val="79242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60459"/>
        <c:crosses val="autoZero"/>
        <c:auto val="1"/>
        <c:lblAlgn val="ctr"/>
        <c:lblOffset val="100"/>
        <c:noMultiLvlLbl val="0"/>
      </c:catAx>
      <c:valAx>
        <c:axId val="42060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2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839-0155-4017-97DA-A3CDC9D7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A24-69B5-4420-9D94-1D970F1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8A8-9B19-4A56-976F-EB12CFB6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D09-D61D-4236-B044-7102B202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CBF-36C1-4784-ABA3-8719D5D8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D47-E4CA-4E14-A327-98F3D79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CDD-312F-40E2-B5EA-B4390BE1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86B-1BBB-475B-ABBC-1789C8C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393-8789-4317-B5DE-589403F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1FE-8F90-41C9-B0DB-1DE64E0D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0D0-B0B6-441E-9929-4FAC0E0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C43-3882-40A8-B077-18C99FE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858D5-7FE3-4FE0-A6D5-8B52F9856B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