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79992"/>
        <c:axId val="65484520"/>
      </c:barChart>
      <c:catAx>
        <c:axId val="95679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4520"/>
        <c:crosses val="autoZero"/>
        <c:auto val="1"/>
        <c:lblAlgn val="ctr"/>
        <c:lblOffset val="100"/>
        <c:noMultiLvlLbl val="0"/>
      </c:catAx>
      <c:valAx>
        <c:axId val="65484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9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55D-8447-45B7-885C-E54C3FC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8F9-FEF9-4374-8656-4F809F97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EE1-B91B-46A0-BBA7-33B42D6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CA6-31EA-45FE-87E0-4612EBD6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E22-7E79-4D46-BA57-558361B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834-4830-4E3C-8495-6B2DA1E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5B1-64FD-4589-A224-6807E01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774-2E75-49C3-9F81-DDF8C98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F49-8184-43B7-86AB-9009C50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90F-51FD-4DF4-877E-9420353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DDC-546E-4E29-AF2A-DA54A2F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DE2-4395-4BBE-B0A3-8659A79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98EE-F8D5-4030-B226-8ED733709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