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47144"/>
        <c:axId val="74713085"/>
      </c:barChart>
      <c:catAx>
        <c:axId val="26947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13085"/>
        <c:crosses val="autoZero"/>
        <c:auto val="1"/>
        <c:lblAlgn val="ctr"/>
        <c:lblOffset val="100"/>
        <c:noMultiLvlLbl val="0"/>
      </c:catAx>
      <c:valAx>
        <c:axId val="747130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47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37B-2990-4FDA-A5A8-9E80743A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653-5A19-4516-97F2-4634B0AE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1B6-F531-4EBA-8AD4-CA72B673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1EA-2685-43D8-98D8-7D65A523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4164-DB97-47A2-AF19-F9DAFABF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4A3-5DF0-4059-BC2E-A81081A0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0F6-C003-4F9A-963D-C2D5C932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5068-F200-4398-92E0-E7D22902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5F6-1EFE-4DD1-81F0-6706D44C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64E-9561-44D2-B874-9DB41C2C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B0B-020E-4E76-ADBF-2C81A1AA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D46-2C4B-4818-A5D7-1CF7F257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AF3D6-FD46-41AB-9E1B-35AD25DEC9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