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8592512"/>
        <c:axId val="93518815"/>
      </c:barChart>
      <c:catAx>
        <c:axId val="2859251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518815"/>
        <c:crosses val="autoZero"/>
        <c:auto val="1"/>
        <c:lblAlgn val="ctr"/>
        <c:lblOffset val="100"/>
        <c:noMultiLvlLbl val="0"/>
      </c:catAx>
      <c:valAx>
        <c:axId val="9351881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59251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A1DB3-8C4C-4385-901D-F13050EF4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BD45A-6813-4C73-B24E-ED98FCA78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6B3F0-0253-4FBC-983B-4F9A2C876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7E198-EE83-4897-894D-AF34791F6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57F0B-618B-4AEB-9200-76B1BE57E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C13F7-9FD5-4911-AFBB-E8D655B06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89F52-C2A7-4DE1-A566-21D65B8F2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E3470-796C-4985-B969-12733A354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94596-054C-4146-9D56-D307BF7CF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F564F-8D85-4A45-BE7A-B1AAC588B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54D15-3767-4D31-96B7-1B360CBEC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3F411-7A2D-4758-866F-70494013B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DE2309-9FD7-4502-A98F-F0AC5E85EAA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