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917537"/>
        <c:axId val="75134728"/>
      </c:barChart>
      <c:catAx>
        <c:axId val="179175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34728"/>
        <c:crosses val="autoZero"/>
        <c:auto val="1"/>
        <c:lblAlgn val="ctr"/>
        <c:lblOffset val="100"/>
        <c:noMultiLvlLbl val="0"/>
      </c:catAx>
      <c:valAx>
        <c:axId val="75134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175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8EAF-BBDD-4682-B69F-E5CFFD3B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E06C-D480-4FBF-A8B4-C189A754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0EAB-5AEB-402D-BC92-710914CD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DE1-4DF5-400C-BC54-1A5DC6B7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EAE1-FCAB-4803-874F-EC4FD66D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04B7-A374-4A59-9A28-91901691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B4D-9FBF-4C31-A37C-1E22A434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7DA-3D8D-454A-8F87-6A76395D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7B6-AF36-4DA1-B44C-F6A7B317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3AFA-79FD-4D41-89C5-5189D719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41D-8AD3-4BD2-BE05-52C6B59D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5C84-80D5-4C42-A773-38C69EA2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3231E-812E-4013-BD81-D8C5069B5E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