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78566"/>
        <c:axId val="24215803"/>
      </c:barChart>
      <c:catAx>
        <c:axId val="67778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5803"/>
        <c:crosses val="autoZero"/>
        <c:auto val="1"/>
        <c:lblAlgn val="ctr"/>
        <c:lblOffset val="100"/>
        <c:noMultiLvlLbl val="0"/>
      </c:catAx>
      <c:valAx>
        <c:axId val="24215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78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EDA-5EF7-499A-807D-07F74A09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C98-270E-418B-B27B-3FCC955D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7EE-612D-4071-BB0C-68CA8EAC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19B-6F69-4B24-AE70-E5D5980F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744-78FE-4E29-A933-ED49035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B238-5457-4A7B-AA6D-D009ADFC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5D6C-0C7C-4580-81B3-AA818B61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5F8-430F-43CA-AA86-DCC061B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ABB-FDC7-4E50-82C8-C6CFEDBB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2715-8794-4465-AEB4-52E483D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14D-746D-48C8-AEE5-DBEB694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475-5315-4778-A25C-69C8809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616D6-06A7-49AF-A4EE-E52A944A40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