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4048560"/>
            <a:ext cx="8839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114300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114300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404856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404856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404856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28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180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4048560"/>
            <a:ext cx="8839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280" y="4048560"/>
            <a:ext cx="8839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180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1000" y="114300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30080" y="114300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280" y="404856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41000" y="404856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30080" y="4048560"/>
            <a:ext cx="284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04856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143000"/>
            <a:ext cx="43135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4048560"/>
            <a:ext cx="8839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58255" b="8812"/>
          <a:stretch/>
        </p:blipFill>
        <p:spPr>
          <a:xfrm>
            <a:off x="5791320" y="1371600"/>
            <a:ext cx="335268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rcRect l="0" t="0" r="58255" b="8812"/>
          <a:stretch/>
        </p:blipFill>
        <p:spPr>
          <a:xfrm>
            <a:off x="5791320" y="1371600"/>
            <a:ext cx="335268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243000"/>
            <a:ext cx="3857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Style.Header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00240" y="152388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Style.VeryLarg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83240" y="1355760"/>
            <a:ext cx="15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{Style.Tiny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35320" y="3473280"/>
            <a:ext cx="276552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{Style.Normal.Header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225360" y="1050840"/>
            <a:ext cx="2076840" cy="246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{Style.Tiny.Header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99680" y="37782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Style.Normal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23480" y="990720"/>
            <a:ext cx="53276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{Style.VeryLarge.Head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77920" y="5446800"/>
            <a:ext cx="268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Style.Larg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82160" y="4913280"/>
            <a:ext cx="40064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{Style.Large.Header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41200" y="6381000"/>
            <a:ext cx="391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{Style.LargeTitl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25360" y="3048120"/>
            <a:ext cx="16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{Style.Small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743200"/>
            <a:ext cx="1904760" cy="2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ahoma"/>
              </a:rPr>
              <a:t>{Style.Small.Header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90160" y="3733920"/>
            <a:ext cx="2140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{Style.Medium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3429000"/>
            <a:ext cx="266544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{Style.Medium.Header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64600" y="4495680"/>
            <a:ext cx="19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Style.Bi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4114800"/>
            <a:ext cx="324468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{Style.Big.Head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06280" y="1905120"/>
            <a:ext cx="15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Tahoma"/>
              </a:rPr>
              <a:t>{Style.Xsmall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676520"/>
            <a:ext cx="2057400" cy="231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  <a:ea typeface="Tahoma"/>
              </a:rPr>
              <a:t>{Style.Xsmall.Header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230040" y="2438280"/>
            <a:ext cx="170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{Style.Smaller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2209680"/>
            <a:ext cx="1904760" cy="246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{Style.Smaller.Header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32600" y="153360"/>
            <a:ext cx="47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{Style.ProjectHeade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44600" y="2666880"/>
            <a:ext cx="274320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{Style.Bold.Heade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15720" y="3092400"/>
            <a:ext cx="203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Style.Bold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81920" y="4572000"/>
            <a:ext cx="2625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{Style.BoldMedium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4191120"/>
            <a:ext cx="32004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{Style.BoldMedium.Header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2550960"/>
            <a:ext cx="348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Style.BoldLarg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2017800"/>
            <a:ext cx="495288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{Style.BoldLarge.Head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06520" y="-122400"/>
            <a:ext cx="43992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{CurrentStatus.Title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{CurrentStatus.TableBottom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143000"/>
            <a:ext cx="3429000" cy="838080"/>
          </a:xfrm>
          <a:prstGeom prst="rect">
            <a:avLst/>
          </a:prstGeom>
          <a:noFill/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{CurrentStatus.TableTop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1143000"/>
            <a:ext cx="5168880" cy="838080"/>
          </a:xfrm>
          <a:prstGeom prst="rect">
            <a:avLst/>
          </a:prstGeom>
          <a:noFill/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{CurrentStatus.TableTopRigh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-184320"/>
            <a:ext cx="5207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CustomFields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CustomFields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6360" y="-184320"/>
            <a:ext cx="3449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Metric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080" y="1068480"/>
            <a:ext cx="88390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Metric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12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{Image.Title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1295280"/>
            <a:ext cx="63244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Image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295280"/>
            <a:ext cx="2133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Image.Info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4114800"/>
            <a:ext cx="4267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Schedule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114800"/>
            <a:ext cx="4267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Issue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553080"/>
            <a:ext cx="876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{Summary.Footer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  <a:ea typeface="Arial"/>
              </a:rPr>
              <a:t>{Summary.IDTable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371600"/>
            <a:ext cx="4267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StatusTable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1371600"/>
            <a:ext cx="4267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Cost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066680"/>
            <a:ext cx="426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{Summary.StatusTit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106668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{Summary.CostsTit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809880"/>
            <a:ext cx="426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{Summary.ScheduleTit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3809880"/>
            <a:ext cx="426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{Summary.IssuesTit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828800"/>
            <a:ext cx="42670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StatusField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257800"/>
            <a:ext cx="4267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Deliverable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257800"/>
            <a:ext cx="4267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Risks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514600"/>
            <a:ext cx="4267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{Summary.Metric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ahoma"/>
              </a:rPr>
              <a:t>{Summary.Title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751760"/>
            <a:ext cx="7543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28195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4724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-153720"/>
            <a:ext cx="5567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{BasicInformation.Title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080" y="1141560"/>
            <a:ext cx="883908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BasicInformation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90560" y="150840"/>
            <a:ext cx="333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Team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Team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42840" y="-184320"/>
            <a:ext cx="3513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Issues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Issues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520" y="150840"/>
            <a:ext cx="3201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Risks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Risks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-184320"/>
            <a:ext cx="3121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Filler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-184320"/>
            <a:ext cx="41673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Schedule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839440" cy="2209680"/>
          </a:xfrm>
          <a:prstGeom prst="rect">
            <a:avLst/>
          </a:prstGeom>
          <a:noFill/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{Schedule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05320"/>
            <a:ext cx="8839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Schedule.Deliverables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800" y="-184320"/>
            <a:ext cx="3100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{Gate.Title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{Gate.DataTab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Trieu Truong</cp:lastModifiedBy>
  <dcterms:modified xsi:type="dcterms:W3CDTF">2007-11-01T17:40:19Z</dcterms:modified>
  <cp:revision>472</cp:revision>
  <dc:subject/>
  <dc:title>{Style.Header}</dc:title>
</cp:coreProperties>
</file>