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07175"/>
        <c:axId val="69013611"/>
      </c:barChart>
      <c:catAx>
        <c:axId val="87507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3611"/>
        <c:crosses val="autoZero"/>
        <c:auto val="1"/>
        <c:lblAlgn val="ctr"/>
        <c:lblOffset val="100"/>
        <c:noMultiLvlLbl val="0"/>
      </c:catAx>
      <c:valAx>
        <c:axId val="69013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07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BAA-21AD-423F-99A5-04C01399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3CC-BCFF-40A9-8CC8-6988C6CF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5A7-9608-4877-AEDD-441047B2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F52-419B-49D7-BA5C-4C79CA61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C9E-9443-41F0-A6C1-0E92E66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19B-E859-4419-AF7F-B3EA5312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80D-F6E5-4BC6-ADEC-9FFAE513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055-6DA8-4B7B-AB43-5B76F841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742-AE32-45E8-BBA5-08D7FFF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820-FD96-4F25-B5D5-972B974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2F3-9B62-4BF4-B72C-5CE8D0DA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99E-A327-4C70-87B8-3372C03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FCF2B-A878-4193-9E47-E0644C3834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