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24167"/>
        <c:axId val="36357981"/>
      </c:barChart>
      <c:catAx>
        <c:axId val="58024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7981"/>
        <c:crosses val="autoZero"/>
        <c:auto val="1"/>
        <c:lblAlgn val="ctr"/>
        <c:lblOffset val="100"/>
        <c:noMultiLvlLbl val="0"/>
      </c:catAx>
      <c:valAx>
        <c:axId val="36357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24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F9C-A061-49B7-9DCF-C6B2DEE4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413-99BE-43A5-855B-3437C1F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5DD-0061-4B3A-B838-7200A7A9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BCC-39DF-4FA6-93A4-100725B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F6C-0B7E-4756-BE50-4D8D022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122-40B5-4A80-A617-402D09C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008-4FBB-446E-A655-3A90FD97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BF6-B6C2-48D3-8EE5-CB17F1C3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B98-4B21-4CF9-AC6E-AB38F402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0C-7C96-4814-9021-A7B3EB1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977-B46D-46D1-8B70-6702D423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F26-B437-4C29-B0C8-B0336BD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D1869-9B6B-4509-897B-844752C1F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