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5174"/>
        <c:axId val="27628543"/>
      </c:barChart>
      <c:catAx>
        <c:axId val="2535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28543"/>
        <c:crosses val="autoZero"/>
        <c:auto val="1"/>
        <c:lblAlgn val="ctr"/>
        <c:lblOffset val="100"/>
        <c:noMultiLvlLbl val="0"/>
      </c:catAx>
      <c:valAx>
        <c:axId val="27628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7E8-4334-4238-A044-121DBA31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81E-94E8-430F-B4A9-0B834FB7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E87-C4AF-4DDD-A30C-4442B297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F5E-D1C1-46B0-A7BB-3E6CD985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32B-D3EC-490A-B09B-9DC853B5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2AC-AFB4-4FB4-BA76-E6EA9DD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EF2-F456-44C2-A79F-AA5B010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FC4-D1B9-4F89-9859-D577AC7A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B7D-4BC9-4411-BE44-2EA5E2B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907-26D3-4E02-B0F7-2C42738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31C-5D86-47B4-8BAA-CCED36C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3EC-C9A9-4067-A133-C586CCC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EE867-0950-43B1-B138-CCA02A3F6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