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80977"/>
        <c:axId val="24089345"/>
      </c:barChart>
      <c:catAx>
        <c:axId val="72080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89345"/>
        <c:crosses val="autoZero"/>
        <c:auto val="1"/>
        <c:lblAlgn val="ctr"/>
        <c:lblOffset val="100"/>
        <c:noMultiLvlLbl val="0"/>
      </c:catAx>
      <c:valAx>
        <c:axId val="24089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80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47E-DCDD-47F0-A6A2-2D92C564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280-BED8-413E-AFC0-F97DA88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CDA-E802-40C6-9E0E-F9BA8EBA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840-8071-4AAB-90CA-31C9CBE3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EBD-123E-486A-9A9C-7AC376FE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95C-3036-4ACF-BC6D-BC5B7B38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738-5F8B-49C5-A61E-0A786D9F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F79-3BB5-444D-8833-59F7FF3F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24F-9130-4F5E-A3D0-C004F37F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C7A-1ADC-471B-830B-6FEEEFF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246-CD5C-4D33-83A3-239543A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05C-3256-4935-ACD7-5D19299E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8A87D-DCF4-44BE-BDEB-64C5A50D51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