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758366"/>
        <c:axId val="6840443"/>
      </c:barChart>
      <c:catAx>
        <c:axId val="457583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0443"/>
        <c:crosses val="autoZero"/>
        <c:auto val="1"/>
        <c:lblAlgn val="ctr"/>
        <c:lblOffset val="100"/>
        <c:noMultiLvlLbl val="0"/>
      </c:catAx>
      <c:valAx>
        <c:axId val="68404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7583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0B03-DEFF-4B67-B625-97B661BAC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C787-277D-4382-BA34-1774688E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91B6-18CE-4D1C-B6F1-12C9CD807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FE81-140A-4B15-B760-CEEFD4A0B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5E62-E394-4A54-893E-AAD82354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0C13-500B-4149-9366-09F0110B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289D-FA58-4AB1-A87B-170BAF5F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1DA1-31E3-4EC3-BD97-D9142771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340E-6634-4D64-BC81-F0D2D2E0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7733-C034-4BA0-8BED-9D39AE97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B645-5A07-41CE-A326-065171F7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9B9A-8E69-4B9A-81E5-B8F56BED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3B03F-D688-417D-A550-3A29E8ED6B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