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50673"/>
        <c:axId val="93751099"/>
      </c:barChart>
      <c:catAx>
        <c:axId val="62750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51099"/>
        <c:crosses val="autoZero"/>
        <c:auto val="1"/>
        <c:lblAlgn val="ctr"/>
        <c:lblOffset val="100"/>
        <c:noMultiLvlLbl val="0"/>
      </c:catAx>
      <c:valAx>
        <c:axId val="9375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50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737-4AF0-4802-BE2E-A8A431C4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995-C961-409B-9A0A-98753EF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64F-E2C4-4E47-97BC-0ABF5BA1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4B0-72E8-4CF2-8546-F9AEBE3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97B-5454-4A6E-8A05-41AC828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CBE-8C14-4E74-8D10-517DE51F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D14-4899-46AA-8AF4-986E469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2EE-2459-44BD-9F27-89C1EAFF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4F5-A407-41A1-AF8B-35EF59AE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74D-DED3-4020-9B4B-FDFD8A7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8D5-4E80-4727-A6BC-73220F5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822-1133-496E-8A9B-E86F4A7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3FF65-2EB2-429A-A4EF-11FBD6C90F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