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69107"/>
        <c:axId val="86420948"/>
      </c:barChart>
      <c:catAx>
        <c:axId val="98369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20948"/>
        <c:crosses val="autoZero"/>
        <c:auto val="1"/>
        <c:lblAlgn val="ctr"/>
        <c:lblOffset val="100"/>
        <c:noMultiLvlLbl val="0"/>
      </c:catAx>
      <c:valAx>
        <c:axId val="86420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69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5B2-0FED-4267-A6C7-B0C20194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2FF-7B63-49C7-B688-C60DC3B4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1E8-75FF-4282-8352-17714DDE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ED0-0B69-436D-A90C-D8638F1B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3D6-0B6E-48A5-A2F8-38943FFA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4B9-7329-41F3-9BA5-F742C3FC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1B8-31EF-48C3-B9B5-1E4CBB35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5C3-3D11-4B7E-A971-6168BD18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4D7-8253-4923-8147-B162AC9E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903-37B4-480B-B5B4-A7D2234E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7B8-4357-45A2-A2A6-85331CE4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2ED-8E35-40BE-A5AE-2EFE0AC0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7C7C9-54DA-4322-B3AD-7B154051AA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