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6259"/>
        <c:axId val="77494503"/>
      </c:barChart>
      <c:catAx>
        <c:axId val="42696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94503"/>
        <c:crosses val="autoZero"/>
        <c:auto val="1"/>
        <c:lblAlgn val="ctr"/>
        <c:lblOffset val="100"/>
        <c:noMultiLvlLbl val="0"/>
      </c:catAx>
      <c:valAx>
        <c:axId val="77494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6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FCF-D0B5-4357-8C84-11EFF8EF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C73-8977-4FD0-9CB2-3119BE6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FBA-FA8D-4423-809A-6BE38149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357-0BF1-49A9-BA9B-CAED5E04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9F2-7EF2-44E3-81B0-03D5AFB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4AE-269E-4FF5-B292-9C1F47C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D11-C931-44A8-8463-8A415EF5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3EA-E8C5-40D2-BBD8-6E5F95A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66F-3254-465D-A3A3-06C9B02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310-EB06-49CD-9B4D-EA15DD3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A9B-48AD-434C-9601-AB438A0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5B5-3095-4A0A-8D52-97300DF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7444-DB84-4C8B-87FD-329CB3194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