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042889"/>
        <c:axId val="23516995"/>
      </c:barChart>
      <c:catAx>
        <c:axId val="780428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516995"/>
        <c:crosses val="autoZero"/>
        <c:auto val="1"/>
        <c:lblAlgn val="ctr"/>
        <c:lblOffset val="100"/>
        <c:noMultiLvlLbl val="0"/>
      </c:catAx>
      <c:valAx>
        <c:axId val="235169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0428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A368-69B4-429F-BDE2-BC824F769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6893-7536-4E88-B17B-D53A0A23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EB80-B15D-4AB0-9B1F-2C4D4BE7F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5794-A147-4353-9FC8-98DA4492D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D02B-A23B-44D8-8618-2EFD40C9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57D3-3EB8-44D8-8A50-5D8BBF8F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C86D-44B1-4217-8266-7542318E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6CBD-C6FB-4520-B0D2-4E5C91C0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6A05-D3F3-4261-8CFA-F33CD65C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1ABA-6FCA-45B1-87D3-38403B15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0A7F-A745-4438-B013-14042D96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93C6-7712-40A5-B8E4-57BD142E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E031D-B5C1-4F3E-B71E-28258B01A9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