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62948"/>
        <c:axId val="51215097"/>
      </c:barChart>
      <c:catAx>
        <c:axId val="14862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15097"/>
        <c:crosses val="autoZero"/>
        <c:auto val="1"/>
        <c:lblAlgn val="ctr"/>
        <c:lblOffset val="100"/>
        <c:noMultiLvlLbl val="0"/>
      </c:catAx>
      <c:valAx>
        <c:axId val="51215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62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109-487F-425C-9A20-3CFBD2E4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A33-5FDC-49F7-BD83-76C34526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D8B-AB9D-4EA2-8B84-6FBBEAFB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989-D68D-4C56-A7A8-301F8559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041-B5F2-4A04-B41B-1A367080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AFA-DC8B-45C5-A83D-3C5DE349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C65-EA81-48BE-BED2-53D80990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FE5-E9BC-4A2E-8FD3-0A9AB3FF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8B0-0008-4E52-9F67-DF371013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8FA-B01B-4BD7-B774-3721B6DD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2B7-51D4-435A-9863-CDAD3DF5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829-DB18-459A-B022-AC4EFB32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5338D-50FF-43E0-939F-2DC6672532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