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48315"/>
        <c:axId val="49852036"/>
      </c:barChart>
      <c:catAx>
        <c:axId val="11848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52036"/>
        <c:crosses val="autoZero"/>
        <c:auto val="1"/>
        <c:lblAlgn val="ctr"/>
        <c:lblOffset val="100"/>
        <c:noMultiLvlLbl val="0"/>
      </c:catAx>
      <c:valAx>
        <c:axId val="498520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48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C1F6-5118-4E16-B013-B3746F9C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EB0-0762-443A-8087-C3A53F94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B6D-11B1-4B41-9254-2D7F466A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A24-9904-421C-8F6A-0A3BC62A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CBF-A89F-41F4-870C-49D16E98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68C-9962-4A46-ACCF-DF55B7F0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C59-2DCC-4D12-90C1-F42B4DE5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22C-4DC2-45C2-B71E-0CF59B4F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886-5839-4092-A200-12EA5802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A36-0D25-42BC-B2A7-42C2CBD8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1325-E7E8-4C79-9869-0E321DB5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488-0045-4213-A1AA-6E1B7AFD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E9D8B-F12C-476A-83FD-31B381D667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