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87661"/>
        <c:axId val="11497135"/>
      </c:barChart>
      <c:catAx>
        <c:axId val="71287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97135"/>
        <c:crosses val="autoZero"/>
        <c:auto val="1"/>
        <c:lblAlgn val="ctr"/>
        <c:lblOffset val="100"/>
        <c:noMultiLvlLbl val="0"/>
      </c:catAx>
      <c:valAx>
        <c:axId val="11497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87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0BD-770E-431C-97D3-75EE5F0B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683-410C-4E1F-B229-B1491B8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E6A-B1AD-4B3B-9DA2-D58E2400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36B-0889-4F91-8E23-987B215A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220-3BC5-4ED2-B806-758B5D90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9B0-B3E0-4A49-8B37-D899F5CF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51E-B575-4686-B51B-6331CFF9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F9E-720F-4B69-83AA-1DD0A6CA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04C-C2F8-4500-B8AC-9FC4CE32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25A-C1EC-438E-8BB5-79910D8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D17-1E25-4DBF-9ECD-56C9D15C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845-0BD1-4B60-A6EC-E5C6D4B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95528-D63A-4B54-9E4F-9465CFC58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