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59807"/>
        <c:axId val="85045413"/>
      </c:barChart>
      <c:catAx>
        <c:axId val="79859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45413"/>
        <c:crosses val="autoZero"/>
        <c:auto val="1"/>
        <c:lblAlgn val="ctr"/>
        <c:lblOffset val="100"/>
        <c:noMultiLvlLbl val="0"/>
      </c:catAx>
      <c:valAx>
        <c:axId val="85045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59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E9F-2669-41EB-A3B8-98CD2831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AE6-C0F2-4953-A749-C0342395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98F-8CD2-46AC-96F7-136590B6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B3D-60B0-46E8-A46E-2AEAF449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F0E-9849-4222-AFBE-060FBA64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F88-B798-4F0D-8D4E-A6EEA323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60F-2CC4-45BF-A857-DED2AB57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201-CE72-4B06-B61F-6E48D45A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69D-2B8F-4CD2-A3ED-A93438FB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627-E20A-4758-99C6-2BAF69F0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DE5-8EC8-4B19-9988-0F83E635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A0A-C0B2-4E23-B982-213337CA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E8C2B-DC3C-445D-856C-F793A7436D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