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95413"/>
        <c:axId val="48537939"/>
      </c:barChart>
      <c:catAx>
        <c:axId val="48095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37939"/>
        <c:crosses val="autoZero"/>
        <c:auto val="1"/>
        <c:lblAlgn val="ctr"/>
        <c:lblOffset val="100"/>
        <c:noMultiLvlLbl val="0"/>
      </c:catAx>
      <c:valAx>
        <c:axId val="48537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95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8E3-887F-47AA-A08F-1D0FC768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91D-B1D9-4FFC-84B6-D9EE98EC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148-0E89-4B26-A32E-54B51B53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C09-39ED-4588-95D8-9C394232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AD3-0518-4A49-BDCA-77B4847F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3F8-8905-45B3-914A-5153AED1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CFF-45FF-47E7-84A7-0665BDFA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758-0FD8-4E82-B8D4-0858528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089-1CCF-457A-AE24-B7127C8E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50A-1021-4C81-84D1-263E108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774-5C90-45B3-88A4-790D6503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B3A-1D64-48D0-BA11-3DE6355C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54173-C79F-416C-A481-5FC4B84A7B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